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C98-1545-4F94-9678-4A414063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E13-E672-495C-924D-A9C915A8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6C2-19E5-44CC-932C-1FBD91FC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A41-8704-4375-90EA-F17806B7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197-3818-4DAA-8E68-A05A0A0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0D2-31E5-439D-BAE8-EF1257B2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79A-0D62-4AE1-8429-BDF43E9C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E6F-D13F-4C65-817E-C99F65A8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DFC-8C29-446F-ABC8-C1933EC0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590-A8F7-44B4-8830-38D8708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987-00C9-45A9-B229-4247DA7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01C-F653-4070-A760-1053BFF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45BD-D059-4DE7-94CE-C0DD95F1A0E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ANNex%20b.doc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WORKING%20METHODOLOGY%20T%20PROQ%20rev%202.doc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Quality%20Plan%20T%20PROQ%20rev3.xls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6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efcarm.es/" TargetMode="External"/><Relationship Id="rId3" Type="http://schemas.openxmlformats.org/officeDocument/2006/relationships/hyperlink" Target="http://www.proqualindt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0.png"/><Relationship Id="rId8" Type="http://schemas.openxmlformats.org/officeDocument/2006/relationships/hyperlink" Target="mailto:vicentej.garberi@carm.es" TargetMode="External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1360" y="-14400"/>
          <a:ext cx="876312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-14400"/>
                    <a:ext cx="87631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JORNADAS ERASMUS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MURCIA 19, FEBRERO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1128600"/>
            <a:chOff x="0" y="0"/>
            <a:chExt cx="9144000" cy="112860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780000" y="18900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19564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rcRect l="21423" t="18981" r="14288" b="26197"/>
            <a:stretch/>
          </p:blipFill>
          <p:spPr>
            <a:xfrm>
              <a:off x="7451640" y="0"/>
              <a:ext cx="169236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755640" y="3860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CENTRO NACIONAL DE FORMACIÓN PROFESIONAL OCUPACIONAL DE CARTAG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017440"/>
            <a:ext cx="8713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Entre otras, la selección depende de que la propuesta sea relevante y esté bien diseñada.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nex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No basta con tener una buena ide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Hay que hacer un estudio minucioso de las tareas a realizar y de las distintas fases del proy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sglosar el proyecto en bloques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stablecer un cronograma con los hitos más desta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Identificar las tareas a realizar en cada bloque de trabajo y cuantificarlas en tiempo y en dinero, y nombrar un responsable para cada tarea /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1196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1623240"/>
            <a:ext cx="88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Desarrollo del proyec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efinir bien la organización del proyecto.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todologí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municaciones entre los socios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Persona de contacto 2 ó 3 por soc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ocumentos de trabajo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finir formatos y versión. (doc, pdf, xl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stablecer un responsable para cada tarea o cada fase del proyecto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unque el reparto de tareas deba estar equilibrado y los socios participen de alguna forma durante toda la duración del proyecto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Importancia de las reuniones de trabajo. En ellas se toman las decisiones más importantes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Preparar bien la agend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or muy implicados que estén los socios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 El promotor (coordinador) tiene que “tirar”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468360" y="7970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1196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9640" y="1848600"/>
            <a:ext cx="8280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Desarrollo del proyec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iseñar un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lan de calidad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onde se reflejen los hitos y resultados a conseguir dentro de un calendario prefijado, de forma que periódicamente se pueda revisar y comprobar el grado de ejecución y la consecución de los objetivos previstos. Esto es importante en caso de retrasos, donde sea necesario reajustar el calendario de entre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as las entregas de productos intermedios deben pasar por el coordinador. A veces es más trabajo, pero es importante  mantener el control de las actividades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640" y="1988280"/>
            <a:ext cx="784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Plan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Hacer un presupuesto lo más realista y detallado posible.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s importante conocer los recursos propios (promotor y socios) para poder determinar cómo y quién debe realizar las distintas tareas del proyecto, y poder cuantificarlo. Los socios deben conocer el presupuesto desde el princip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1196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1848240"/>
            <a:ext cx="828036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Plan financier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Justificación de gastos.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ada país y cada organismo tiene sus procedimientos para justificación de gastos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ben conocer desde el primer día el plan financiero del proyecto, así como disponer de la Guía o Manual Administrativo y Financiero. Facilitar a los socios las hojas o modelos disponibles para justificación de gasto. Reservar en las reuniones de trabajo un apartado para revisar y recordar el procedimiento de just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El coordinador del proyecto no es quien acepta o no los justificantes de ga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762200"/>
            <a:ext cx="87138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alidad de la Asociación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egir bien a los socios. 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l proyecto y los resultados previstos deben ser útiles para e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nocer sus capacidades para poder asignarles a cada uno las tareas más adecu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os socios deben tener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nfluencia y capacidad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para que los resultados del proyecto tengan el impacto deseado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Organismos con relevancia en sus respectivos países y participación en foro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76360" y="13644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907920"/>
            <a:ext cx="77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990033"/>
                </a:solidFill>
                <a:uFillTx/>
                <a:latin typeface="Times New Roman"/>
              </a:rPr>
              <a:t>TRANSFERRING EUROPEAN TRAINING PROGRAMME FOR THE QUALIFICATION OF NON-DESTRUCTIVE TESTING PERS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205000"/>
            <a:ext cx="3097080" cy="276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tro Nacional de F.P.O. de Cartag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378936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436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421000"/>
            <a:ext cx="259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32130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LABO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43280" y="4221000"/>
            <a:ext cx="792000" cy="43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4653000"/>
            <a:ext cx="245412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Húngara de Ensayos no Destru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437000"/>
            <a:ext cx="2195640" cy="391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Croata de Ensayos no Destructivos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2420280"/>
            <a:ext cx="235728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Checa de Ensayos no Destructivos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22106" t="0" r="22168" b="0"/>
          <a:stretch/>
        </p:blipFill>
        <p:spPr>
          <a:xfrm>
            <a:off x="7164360" y="1484280"/>
            <a:ext cx="1079640" cy="862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443640" y="2421000"/>
            <a:ext cx="230364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Española de Ensayos no Destructiv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236000" y="3573360"/>
            <a:ext cx="1008000" cy="932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1143000" cy="117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55640" y="3500280"/>
            <a:ext cx="1042920" cy="719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H="1" flipV="1">
            <a:off x="5756400" y="4179960"/>
            <a:ext cx="1087200" cy="29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577600" y="2961360"/>
            <a:ext cx="948600" cy="315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390280" y="2911320"/>
            <a:ext cx="871920" cy="41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8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9"/>
          <a:srcRect l="21423" t="15647" r="14288" b="30317"/>
          <a:stretch/>
        </p:blipFill>
        <p:spPr>
          <a:xfrm>
            <a:off x="3708360" y="1413000"/>
            <a:ext cx="136836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3886200" y="4664160"/>
          <a:ext cx="1143000" cy="107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86200" y="4664160"/>
                    <a:ext cx="11430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500720" y="429264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5805360"/>
            <a:ext cx="360036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de Laboratorios Acreditados de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17596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Difusión e impac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jar actividades concretas de difusión.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Cada vez es más la importancia que se da al impacto que pueda tener el proyecto. La utilidad del proyecto debe estar garantizada por los propios s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ostenibilidad de éste una vez finalizado el periodo de elegibilidad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8360" y="1773360"/>
            <a:ext cx="84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UNTOS FUERTES DEL PROYEC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ropuesta ligada a uno de los objetivos del program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cercar la formación al mundo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Justificación del carácter transnacional de la propuest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xistencia de una norma europea que regula los requisitos y procedimientos para certificación de operadores de END. EN 473, ISO 97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alidad de la Asociación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os los socios son los organismos responsables de la certificación de operadores de END en sus respectiv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apacidad de la Asociación para aplicar y difundir los resultados del proyecto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os son miembros de organismos europeos d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468360" y="8686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2274480"/>
            <a:ext cx="828036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osibilidad de conocer otras formas de trabajar y otras cultu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nriquecimiento personal y profe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Contribución a la mejora de herramientas o métodos de la formación profes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ar sentido al concepto de Europa y contribuir a que la idea de la libre circulación de trabajadores dentro de la UE sea un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3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684360" y="11239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ENEFICIOS DE PARTICIPAR EN INICIATIVAS Y PROYECT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440"/>
          <a:ext cx="876312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87631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51280" y="263700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rebuchet MS"/>
              </a:rPr>
              <a:t>CENTRO NACIONAL DE FORMACIÓN PROFESIONAL OCUPACIONAL DE CARTAGENA (MURCI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3382920" cy="1452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156360" y="476280"/>
            <a:ext cx="1944720" cy="143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3425" t="0" r="0" b="0"/>
          <a:stretch/>
        </p:blipFill>
        <p:spPr>
          <a:xfrm>
            <a:off x="324000" y="2349360"/>
            <a:ext cx="352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2278800"/>
            <a:ext cx="7848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ner paciencia.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Es difícil que una propuesta se apruebe a la primera, justamente porque no está bien definida y hay que madurar la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3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1628640"/>
            <a:ext cx="8569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entro Nacional de Formación Profesional Ocupacional de CARTAGENA (Mur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amilia Profesional de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371628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Página Web Centro a través de: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efcarm.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Página Web del proyecto: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oqualind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6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684360" y="4941720"/>
            <a:ext cx="316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icente Garberí Co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vicentej.garberi@carm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4941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036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6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56360" y="404640"/>
            <a:ext cx="1944720" cy="143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2133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Arial"/>
              </a:rPr>
              <a:t>SERVICIO REGIONAL DE EMPLEO Y 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2708280"/>
            <a:ext cx="71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Organismo Autónomo dependiente de la Consejería de Educación, Universidades y Empleo de la Comunidad Autónoma de la Región de Mu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933720"/>
            <a:ext cx="68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US FUN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Órgano encargado en el ámbito de la 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utónoma de la Región de Murcia, del diseñ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jecu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9933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cciones de Fomento de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9933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mación para el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9933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rientación e Intermediación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26920" y="476280"/>
            <a:ext cx="316728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0920" y="1843560"/>
            <a:ext cx="8675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CENTROS NACIONALES DE FORMACION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2737080" cy="1174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56360" y="404640"/>
            <a:ext cx="1944720" cy="1435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6370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LA RED DE CENTROS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nfmapP" descr="pulse sobre el nombre de una Comunidad Autónoma"/>
          <p:cNvPicPr/>
          <p:nvPr/>
        </p:nvPicPr>
        <p:blipFill>
          <a:blip r:embed="rId5"/>
          <a:stretch/>
        </p:blipFill>
        <p:spPr>
          <a:xfrm>
            <a:off x="3995640" y="2924280"/>
            <a:ext cx="4861080" cy="323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3429000"/>
            <a:ext cx="441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31 CENTROS NACIONALES REPARTIDOS POR TODA LA GEOGRAFIA ESPAÑOLA, CADA UNO CON SU AREA FORMATIVA ASIGNADA, ENTRE ELLOS EL </a:t>
            </a:r>
            <a:r>
              <a:rPr b="1" i="1" lang="es-ES" sz="1800" spc="-1" strike="noStrike">
                <a:solidFill>
                  <a:srgbClr val="993300"/>
                </a:solidFill>
                <a:latin typeface="Arial"/>
              </a:rPr>
              <a:t>CENTRO NACIONAL DE CARTA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-10800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1280" y="189000"/>
            <a:ext cx="2016000" cy="86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1079280" cy="79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1124640"/>
            <a:ext cx="8642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CENTRO NACIONAL DE F.P.O. DE CARTAG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Familia Profesional:</a:t>
            </a: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QUI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98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Área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4589640"/>
            <a:ext cx="62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nálisis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nsayos Microbiológicos y Bio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rganización y Control de Ensayos No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tructivos: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Ultraso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adi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249228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roceso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869000"/>
            <a:ext cx="23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Análisis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239076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Gestión y Control en Planta Quí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peraciones Básicas en Planta Quí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peraciones en Instalaciones de Energía y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 Servicios Aux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5401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0200" y="470844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490920"/>
            <a:ext cx="2204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Transform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de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37638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peraciones de transformación de   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olímeros termoplást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25800" y="3844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1963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Certificados de Profes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38080" y="255276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1197000"/>
            <a:ext cx="7632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PROGRAMA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DE FORMACIÓN 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993300"/>
                </a:solidFill>
                <a:latin typeface="Arial"/>
              </a:rPr>
              <a:t>LEONARDO DA VINC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Proyecto de Transferencia de Innovación nº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11-1-LEO05-357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Nuevo ERASMUS +    </a:t>
            </a:r>
            <a:r>
              <a:rPr b="0" i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    KA2 Asociacione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Verdana"/>
              </a:rPr>
              <a:t>“</a:t>
            </a:r>
            <a:r>
              <a:rPr b="1" lang="es-ES" sz="1800" spc="-1" strike="noStrike">
                <a:solidFill>
                  <a:srgbClr val="993300"/>
                </a:solidFill>
                <a:latin typeface="Verdana"/>
              </a:rPr>
              <a:t>TRANSFERRING EUROPEAN TRAINING PROGRAMME FOR THE QUALIFICATION OF NON-DESTRUCTIVE TESTING PERSONNEL”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700280"/>
            <a:ext cx="80769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333399"/>
                </a:solidFill>
                <a:uFillTx/>
                <a:latin typeface="Times New Roman"/>
              </a:rPr>
              <a:t>OBJETIVOS</a:t>
            </a:r>
            <a:r>
              <a:rPr b="0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ctualización y transferencia de una herramienta común a todos los participantes para la formación y certificación, conforme a la norma UNE-EN-ISO</a:t>
            </a:r>
            <a:r>
              <a:rPr b="0" i="1" lang="es-E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9712,</a:t>
            </a:r>
            <a:r>
              <a:rPr b="0" i="1" lang="es-ES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en sus tres niveles de cualificación existentes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Berlin Sans FB"/>
                <a:ea typeface="Times New Roman"/>
              </a:rPr>
              <a:t>en los métod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</a:t>
            </a:r>
            <a:r>
              <a:rPr b="0" lang="es-ES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Radiografía Indus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Corrientes Indu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Ultraso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Partículas Magn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Líquidos Penet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ctualización y elaboración de materiales didácticos para alumnos y profesores, únicos para todos los países socios, editados en cada uno de sus idi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981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33"/>
                </a:solidFill>
                <a:uFillTx/>
                <a:latin typeface="Times New Roman"/>
              </a:rPr>
              <a:t>TRANSFERRING EUROPEAN TRAINING PROGRAMME FOR THE QUALIFICATION OF NON-DESTRUCTIVE TESTING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177336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333399"/>
                </a:solidFill>
                <a:uFillTx/>
                <a:latin typeface="Times New Roman"/>
              </a:rPr>
              <a:t>PRODUCTOS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333399"/>
                </a:solidFill>
                <a:uFillTx/>
                <a:latin typeface="Times New Roman"/>
              </a:rPr>
              <a:t>RESULTANTES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5 Guías Didáctic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enen los objetivos, requisitos del alumno e instalaciones, así como la enumeración de los contenidos teórico prácticos, desarrollados en los manuales de estu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7 Manuales de Estud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ntienen el desarrollo de los conocimientos teórico-prácticos necesarios para su estudio por el alum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1 Guía del profeso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ntiene las orientaciones pedagógicas a seguir por parte del form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o el material elaborado disponible en:  Español, Checo, Croata, Húngaro, Portugués e Inglés, con los tres niveles de espe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981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33"/>
                </a:solidFill>
                <a:uFillTx/>
                <a:latin typeface="Times New Roman"/>
              </a:rPr>
              <a:t>TRANSFERRING EUROPEAN TRAINING PROGRAMME FOR THE QUALIFICATION OF NON-DESTRUCTIVE TESTING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UN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705320"/>
            <a:ext cx="871380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s el punto más difícil. Entre otras, la selección depende de que la propuesta sea relevante y esté bien diseñ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etectar una necesidad (¿Porqué es necesario el proyecto?)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usencia de una herramienta común para el estudio encaminado a la ce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Que esa necesidad responda  a uno de los objetivos del program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cercar la formación al mundo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Que se justifique la necesidad de su dimensión europe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xistencia de una norma europea que regula los requisitos y procedimientos para certificación de operadores de END. EN 473, ISO 97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2:10:13Z</dcterms:created>
  <dc:creator>WinuE</dc:creator>
  <dc:description/>
  <dc:language>en-US</dc:language>
  <cp:lastModifiedBy>.</cp:lastModifiedBy>
  <dcterms:modified xsi:type="dcterms:W3CDTF">2014-02-18T09:51:03Z</dcterms:modified>
  <cp:revision>35</cp:revision>
  <dc:subject/>
  <dc:title>Diapositiva 1</dc:title>
</cp:coreProperties>
</file>